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7.jpeg" ContentType="image/jpeg"/>
  <Override PartName="/ppt/media/image26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3F9-1969-421C-A9C3-0E905B39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88A-EC98-48CB-8D4C-EDE7A44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721A-A154-4EFE-B3A7-72E354DE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366-B824-4DF9-9385-F954D970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3DB-4254-4E1D-B936-9B0A3632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4E4-F7DB-4D35-8EB1-E0562491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BA1C-B973-4201-8BA2-4CEE183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EE8-AEF6-49C8-B9A6-DCB3EA6D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543-1159-4A07-8C06-7051483B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4203-B4C9-4730-9622-C11CBF47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E19-C604-4996-AC75-49D92D41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FA0-4EE6-4C10-A8D5-60D98A53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BE06-2BFD-483A-A93D-398A620F9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1.xml"/><Relationship Id="rId4" Type="http://schemas.openxmlformats.org/officeDocument/2006/relationships/slide" Target="slide1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6715080" cy="20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ff"/>
                </a:solidFill>
                <a:latin typeface="Arial"/>
              </a:rPr>
              <a:t>Биополимеры –нуклеиновые кислот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Рисунок15"/>
          <p:cNvPicPr/>
          <p:nvPr/>
        </p:nvPicPr>
        <p:blipFill>
          <a:blip r:embed="rId1"/>
          <a:stretch/>
        </p:blipFill>
        <p:spPr>
          <a:xfrm>
            <a:off x="3000240" y="2214720"/>
            <a:ext cx="27147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chargaff"/>
          <p:cNvPicPr/>
          <p:nvPr/>
        </p:nvPicPr>
        <p:blipFill>
          <a:blip r:embed="rId1"/>
          <a:stretch/>
        </p:blipFill>
        <p:spPr>
          <a:xfrm>
            <a:off x="6500880" y="1785960"/>
            <a:ext cx="2415960" cy="359244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6576480" y="578628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вин Чарга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214200" y="5072040"/>
            <a:ext cx="607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ъяснение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авилам Чаргаффа дали Уотсон и Кр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285840" y="600084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НК – это 2 цепочки, соединенные по принципу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племента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Чаргафф правила"/>
          <p:cNvPicPr/>
          <p:nvPr/>
        </p:nvPicPr>
        <p:blipFill>
          <a:blip r:embed="rId2"/>
          <a:srcRect l="0" t="0" r="0" b="7321"/>
          <a:stretch/>
        </p:blipFill>
        <p:spPr>
          <a:xfrm>
            <a:off x="357120" y="571680"/>
            <a:ext cx="5354640" cy="378612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6"/>
          <p:cNvSpPr/>
          <p:nvPr/>
        </p:nvSpPr>
        <p:spPr>
          <a:xfrm>
            <a:off x="510480" y="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авила Чаргаффа (1950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452160" y="4429080"/>
            <a:ext cx="58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[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Ц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]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ринцип комплементар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81080" y="3716280"/>
            <a:ext cx="9144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зотистые основани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у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инуклеотидных цепей ДНК соединяются между собой попарно при помощи </a:t>
            </a:r>
            <a:r>
              <a:rPr b="1" i="1" lang="ru-RU" sz="2000" spc="-1" strike="noStrike">
                <a:solidFill>
                  <a:srgbClr val="023946"/>
                </a:solidFill>
                <a:latin typeface="Arial"/>
              </a:rPr>
              <a:t>водородных связ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С) по принципу </a:t>
            </a:r>
            <a:r>
              <a:rPr b="1" lang="ru-RU" sz="2000" spc="-1" strike="noStrike">
                <a:solidFill>
                  <a:srgbClr val="023946"/>
                </a:solidFill>
                <a:latin typeface="Arial"/>
              </a:rPr>
              <a:t>комплементар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остранственного соответствия друг другу). Пиримидиновое основание связывается с пуриновым: тимин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аденином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е ВС),  цитозин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гуанином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ри ВС). Таким образом, содержание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одержанию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ние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содержанию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последовательность нуклеотидов в одной цепи ДНК, можно расшифровать строение (первичную структуру) второй цеп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лучшего запоминания принципа комплементарности можно воспользоваться </a:t>
            </a:r>
            <a:r>
              <a:rPr b="0" i="1" lang="ru-RU" sz="2000" spc="-1" strike="noStrike">
                <a:solidFill>
                  <a:srgbClr val="023946"/>
                </a:solidFill>
                <a:latin typeface="Arial"/>
              </a:rPr>
              <a:t>мнемоническим прием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запомни словосочет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гр –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ьбинос    и   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Ц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ля - 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луб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4100902i"/>
          <p:cNvPicPr/>
          <p:nvPr/>
        </p:nvPicPr>
        <p:blipFill>
          <a:blip r:embed="rId1"/>
          <a:stretch/>
        </p:blipFill>
        <p:spPr>
          <a:xfrm>
            <a:off x="2195640" y="836640"/>
            <a:ext cx="4895640" cy="1967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Безымянный"/>
          <p:cNvPicPr/>
          <p:nvPr/>
        </p:nvPicPr>
        <p:blipFill>
          <a:blip r:embed="rId2"/>
          <a:stretch/>
        </p:blipFill>
        <p:spPr>
          <a:xfrm>
            <a:off x="2556000" y="2781360"/>
            <a:ext cx="413208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360"/>
                            </p:stCondLst>
                            <p:childTnLst>
                              <p:par>
                                <p:cTn id="2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179280" y="907920"/>
            <a:ext cx="5761080" cy="1657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be2f3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ель ДНК Уотсона и Кри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953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54007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ДНК – двойная спираль, в которой 2 полинуклеотидные цепи удерживаются водородными связями между комплементарными основания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модель была основана на следующих фак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химического анализа (ДНК – полинуклеоти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рвина Чаргафф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 равном соотношении в ДНК аденина и тимина,   цитозина и гуани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нтгенограмма ДНК, полученная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залиндой Франклин и Морисом        Уилкин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нно модель Уотсона-Крика позволила объяснить, каким образом при делении клетки в каждую дочернюю клетку попадает идентичная информация, содержащаяся в материнской клетке. Это происходит в результате удвоения молекулы ДНК, то есть в результа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плик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Репликация Д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3500280"/>
            <a:ext cx="896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воение молекулы ДНК называют 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ре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редупликацией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ремя репликации часть молекулы «материнской» ДНК расплетается на две нити с помощью специального фермента , причем это достигается разрывом водородных связей между комплементарными азотистыми основаниями: аденином —тимином и гуанином – цитозином. Далее к каждому нуклеотиду разошедшихся нитей ДНК фермент ДНК-полимераза подстраивает комплементарный ему нуклеотид. Таким образом, образу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в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вуцепочечные молекулы ДНК, в состав каждой из которых входят одна цепочка «материнской» молекулы и одна новосинтезированная («дочерняя») цепочка. Эти две молекулы ДНК абсолютн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идентичн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Рисунок13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Биологическое значение </a:t>
            </a:r>
            <a:br>
              <a:rPr sz="3200"/>
            </a:b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клеиновые кислоты обеспечив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ранение наследственной информации в виде генетического код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у ее при размножении дочерним организма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е реализацию при росте и развитии организма в течение жизни в виде участия в очень важном процессе –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биосинтезе бел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Рисунок69"/>
          <p:cNvPicPr/>
          <p:nvPr/>
        </p:nvPicPr>
        <p:blipFill>
          <a:blip r:embed="rId1"/>
          <a:stretch/>
        </p:blipFill>
        <p:spPr>
          <a:xfrm>
            <a:off x="611280" y="3213000"/>
            <a:ext cx="4438440" cy="338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исунок70"/>
          <p:cNvPicPr/>
          <p:nvPr/>
        </p:nvPicPr>
        <p:blipFill>
          <a:blip r:embed="rId2"/>
          <a:stretch/>
        </p:blipFill>
        <p:spPr>
          <a:xfrm>
            <a:off x="5796000" y="3213000"/>
            <a:ext cx="27781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дания на 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20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Содержание адениновых нуклеотидов А в молекуле ДНК равно 20%. Определите содержание остальных (каких?) нуклеот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стройте участок второй цепочки ДНК, следуя принципу комплемента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932360" y="3448080"/>
            <a:ext cx="3743280" cy="2847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ANTN027"/>
          <p:cNvPicPr/>
          <p:nvPr/>
        </p:nvPicPr>
        <p:blipFill>
          <a:blip r:embed="rId2"/>
          <a:stretch/>
        </p:blipFill>
        <p:spPr>
          <a:xfrm>
            <a:off x="395280" y="0"/>
            <a:ext cx="21686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роверь себя – правильные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нуклеотидов в ДН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20% (равно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(100 -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0):2 = =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Arial"/>
              </a:rPr>
              <a:t>Ц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30% (равно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8000" y="1197000"/>
            <a:ext cx="4038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Структура участка двух цепей ДН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– Ц – Г – 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800080"/>
                </a:solidFill>
                <a:latin typeface="Arial"/>
              </a:rPr>
              <a:t>Т – Г – Ц –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16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16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316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6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16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242000" y="142920"/>
            <a:ext cx="56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ибонуклеиновая кисл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"/>
          <p:cNvPicPr/>
          <p:nvPr/>
        </p:nvPicPr>
        <p:blipFill>
          <a:blip r:embed="rId1"/>
          <a:stretch/>
        </p:blipFill>
        <p:spPr>
          <a:xfrm>
            <a:off x="0" y="1285920"/>
            <a:ext cx="1171440" cy="44863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8"/>
          <p:cNvSpPr/>
          <p:nvPr/>
        </p:nvSpPr>
        <p:spPr>
          <a:xfrm>
            <a:off x="1214280" y="1928880"/>
            <a:ext cx="2286000" cy="1571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Азотист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сн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Аденин (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Гуанин (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Цитозин (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Урацил (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авильный пятиугольник 9"/>
          <p:cNvSpPr/>
          <p:nvPr/>
        </p:nvSpPr>
        <p:spPr>
          <a:xfrm>
            <a:off x="4357800" y="1785960"/>
            <a:ext cx="1785960" cy="1628640"/>
          </a:xfrm>
          <a:prstGeom prst="pentagon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иб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10"/>
          <p:cNvSpPr/>
          <p:nvPr/>
        </p:nvSpPr>
        <p:spPr>
          <a:xfrm>
            <a:off x="6929280" y="2000160"/>
            <a:ext cx="2214720" cy="157176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ста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фосфор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право 11"/>
          <p:cNvSpPr/>
          <p:nvPr/>
        </p:nvSpPr>
        <p:spPr>
          <a:xfrm>
            <a:off x="3500280" y="25718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12"/>
          <p:cNvSpPr/>
          <p:nvPr/>
        </p:nvSpPr>
        <p:spPr>
          <a:xfrm>
            <a:off x="6000840" y="27147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3"/>
          <p:cNvSpPr/>
          <p:nvPr/>
        </p:nvSpPr>
        <p:spPr>
          <a:xfrm>
            <a:off x="2286000" y="4714920"/>
            <a:ext cx="517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РНК – это одноцепочечная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4"/>
          <p:cNvSpPr/>
          <p:nvPr/>
        </p:nvSpPr>
        <p:spPr>
          <a:xfrm>
            <a:off x="2955960" y="1000080"/>
            <a:ext cx="440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Состав нуклеотида в РН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иды РН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"/>
          <p:cNvSpPr/>
          <p:nvPr/>
        </p:nvSpPr>
        <p:spPr>
          <a:xfrm>
            <a:off x="642960" y="1428840"/>
            <a:ext cx="8143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Информационная РНК (и-РНК): перенос информации из ядра в цитоплазму клетки к месту синтеза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Транспортная РНК (т-РНК): перенос аминокислот к месту синтеза бе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Рибосомальная РНК (р-РНК): входят в состав рибосом, определяет их струк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Рибосомальные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95640" y="1197000"/>
            <a:ext cx="4608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ибосомальные РНК синтезируются в основном в ядрышке и составляют примерно 85-90% всех РНК клетки. В комплексе с белками они входят в состав рибосом и осуществляют синтез пептидных связей между аминокислотными звеньями при биосинтезе белка. Образно говоря, </a:t>
            </a:r>
            <a:r>
              <a:rPr b="1" lang="ru-RU" sz="2000" spc="-1" strike="noStrike" u="sng">
                <a:solidFill>
                  <a:srgbClr val="ffcc00"/>
                </a:solidFill>
                <a:uFillTx/>
                <a:latin typeface="Arial"/>
              </a:rPr>
              <a:t>рибосом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это молекулярная вычислительная машина, переводящая тексты с нуклеотидного языка ДНК и РНК на аминокислотный язык бел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Рисунок36"/>
          <p:cNvPicPr/>
          <p:nvPr/>
        </p:nvPicPr>
        <p:blipFill>
          <a:blip r:embed="rId1"/>
          <a:stretch/>
        </p:blipFill>
        <p:spPr>
          <a:xfrm>
            <a:off x="1042920" y="1197000"/>
            <a:ext cx="2887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Рисунок16"/>
          <p:cNvPicPr/>
          <p:nvPr/>
        </p:nvPicPr>
        <p:blipFill>
          <a:blip r:embed="rId1"/>
          <a:stretch/>
        </p:blipFill>
        <p:spPr>
          <a:xfrm>
            <a:off x="6084720" y="2565360"/>
            <a:ext cx="2519640" cy="1440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788f"/>
                </a:solidFill>
                <a:latin typeface="Arial"/>
              </a:rPr>
              <a:t>Вехи ис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142640"/>
            <a:ext cx="84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К открыта в 1868 г швейцарским врач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 Ф. Мишер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еточных яд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йкоцитов, отсюда и название –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уклеинов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ислота (лат. «</a:t>
            </a:r>
            <a:r>
              <a:rPr b="0" i="1" lang="en-US" sz="2400" spc="-1" strike="noStrike">
                <a:solidFill>
                  <a:srgbClr val="800080"/>
                </a:solidFill>
                <a:latin typeface="Arial"/>
              </a:rPr>
              <a:t>nucleus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др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-30-х год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. определи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НК – полимер (</a:t>
            </a:r>
            <a:r>
              <a:rPr b="1" lang="ru-RU" sz="2400" spc="-1" strike="noStrike">
                <a:solidFill>
                  <a:srgbClr val="023946"/>
                </a:solidFill>
                <a:latin typeface="Arial"/>
              </a:rPr>
              <a:t>полинуклеот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укариотических клетках 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редоточена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хромосома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ли, что ДНК играет структурную ро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44 г. группа американских бактериологов из Рокфеллеровского института во главе с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. Эве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казала, что способность пневмококков вызывать болезнь передается от одних к другим при обмене ДНК (плазмидами). Таким образом, было доказано, что именно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ДНК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является</a:t>
            </a: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</a:rPr>
              <a:t>носителем наследственной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ории, объясняющей данный факт, еще не бы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Users\Администратор\Desktop\220px-Friedrich_Miescher.jpg"/>
          <p:cNvPicPr/>
          <p:nvPr/>
        </p:nvPicPr>
        <p:blipFill>
          <a:blip r:embed="rId2"/>
          <a:stretch/>
        </p:blipFill>
        <p:spPr>
          <a:xfrm>
            <a:off x="714240" y="142920"/>
            <a:ext cx="150048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Биологическая роль и-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-РНК, являясь копией с определенного участка молекулы ДНК, содержит информацию о первичной структуре одного белка. Последовательность из трех нуклеотидов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ипл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в молекуле и-РНК (первооснова – ДНК!) кодирует определенный вид аминокислоты. Эту информацию сравнительно небольшая молекула и-РНК переносит из ядра, проходя через поры в ядерной оболочке, к рибосоме – месту синтеза белка. Поэтому и-РНК иногда называют «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ч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подчеркивая ее роль в данной процессе. </a:t>
            </a:r>
            <a:r>
              <a:rPr b="1" lang="ru-RU" sz="2000" spc="-1" strike="noStrike">
                <a:solidFill>
                  <a:srgbClr val="fc74df"/>
                </a:solidFill>
                <a:latin typeface="Arial"/>
              </a:rPr>
              <a:t>Генетический ко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 расшифрован в 1965-1967 г.г., за чт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. Г. Кора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а присуждена Нобелевская прем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Рисунок33"/>
          <p:cNvPicPr/>
          <p:nvPr/>
        </p:nvPicPr>
        <p:blipFill>
          <a:blip r:embed="rId1"/>
          <a:stretch/>
        </p:blipFill>
        <p:spPr>
          <a:xfrm>
            <a:off x="1476360" y="4365720"/>
            <a:ext cx="6337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95280" y="4869000"/>
            <a:ext cx="1800360" cy="21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Транспортные Р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512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НК, доставляющие аминокислоты к рибосоме в процессе синтеза белка, называются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транспортными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Эти небольшие молекулы, форма которых напоминает лист клевера, несут на своей вершине последовательность из трех нуклеотидов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нтикодоны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С их помощью т-РНК будут присоединяться к кодонам и-РНК по принципу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</a:rPr>
              <a:t>комплементарности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Противоположный конец молекулы т-РНК присоединя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минокислоту,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причем только определенный вид, который соответствует его антикодону (см. генетический ко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4" descr="0300210"/>
          <p:cNvPicPr/>
          <p:nvPr/>
        </p:nvPicPr>
        <p:blipFill>
          <a:blip r:embed="rId1"/>
          <a:stretch/>
        </p:blipFill>
        <p:spPr>
          <a:xfrm>
            <a:off x="5143680" y="2286000"/>
            <a:ext cx="3143160" cy="3143160"/>
          </a:xfrm>
          <a:prstGeom prst="rect">
            <a:avLst/>
          </a:prstGeom>
          <a:ln w="0">
            <a:noFill/>
          </a:ln>
        </p:spPr>
      </p:pic>
      <p:cxnSp>
        <p:nvCxnSpPr>
          <p:cNvPr id="135" name="Прямая со стрелкой 8"/>
          <p:cNvCxnSpPr/>
          <p:nvPr/>
        </p:nvCxnSpPr>
        <p:spPr>
          <a:xfrm flipH="1">
            <a:off x="6928560" y="1857240"/>
            <a:ext cx="715320" cy="85824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cxnSp>
        <p:nvCxnSpPr>
          <p:cNvPr id="136" name="Прямая со стрелкой 11"/>
          <p:cNvCxnSpPr/>
          <p:nvPr/>
        </p:nvCxnSpPr>
        <p:spPr>
          <a:xfrm flipH="1" flipV="1">
            <a:off x="6643800" y="5286240"/>
            <a:ext cx="643320" cy="64332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  <p:sp>
        <p:nvSpPr>
          <p:cNvPr id="137" name="TextBox 14"/>
          <p:cNvSpPr/>
          <p:nvPr/>
        </p:nvSpPr>
        <p:spPr>
          <a:xfrm>
            <a:off x="7293240" y="142884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нтикод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6297480" y="59292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кцепторный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9362"/>
                </a:solidFill>
                <a:latin typeface="Arial"/>
              </a:rPr>
              <a:t>Строение нуклеиновых кисл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и их биологическая 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Строение НК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9640" y="1413000"/>
            <a:ext cx="820908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-100080"/>
            <a:ext cx="84358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23640" y="285840"/>
            <a:ext cx="74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верка правильности заполнения табл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-1440" y="907920"/>
          <a:ext cx="9145440" cy="5757840"/>
        </p:xfrm>
        <a:graphic>
          <a:graphicData uri="http://schemas.openxmlformats.org/drawingml/2006/table">
            <a:tbl>
              <a:tblPr/>
              <a:tblGrid>
                <a:gridCol w="3058920"/>
                <a:gridCol w="280836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4" marL="72216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инуклеотиды, мономеры которых имеют общий план стро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ЗЛИЧ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зоксириб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Азотистые 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н -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имин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зин - гуан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нин –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урацил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   цитозин – гуани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йная спи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цепочечная молеку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дро, митохондрии и хлороплас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плазма, рибосо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Биологические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ение наследственной информации и передача ее из поколения в поко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матричном биосинтезе белка на рибосоме, т.е. реализация наследственной информ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Задание на 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6756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я принципу комплементар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й участок молекулы иРНК по участ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й цепи ДНК. Как называется данный процес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роверь себ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ANTN027"/>
          <p:cNvPicPr/>
          <p:nvPr/>
        </p:nvPicPr>
        <p:blipFill>
          <a:blip r:embed="rId1"/>
          <a:stretch/>
        </p:blipFill>
        <p:spPr>
          <a:xfrm>
            <a:off x="250920" y="260280"/>
            <a:ext cx="1950840" cy="162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0299125"/>
          <p:cNvPicPr/>
          <p:nvPr/>
        </p:nvPicPr>
        <p:blipFill>
          <a:blip r:embed="rId2"/>
          <a:stretch/>
        </p:blipFill>
        <p:spPr>
          <a:xfrm>
            <a:off x="468360" y="4076640"/>
            <a:ext cx="1595520" cy="2374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Рисунок31"/>
          <p:cNvPicPr/>
          <p:nvPr/>
        </p:nvPicPr>
        <p:blipFill>
          <a:blip r:embed="rId3"/>
          <a:stretch/>
        </p:blipFill>
        <p:spPr>
          <a:xfrm>
            <a:off x="2627280" y="2349360"/>
            <a:ext cx="5108760" cy="9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Рисунок32"/>
          <p:cNvPicPr/>
          <p:nvPr/>
        </p:nvPicPr>
        <p:blipFill>
          <a:blip r:embed="rId4"/>
          <a:stretch/>
        </p:blipFill>
        <p:spPr>
          <a:xfrm>
            <a:off x="2627280" y="3933720"/>
            <a:ext cx="52466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320"/>
                            </p:stCondLst>
                            <p:childTnLst>
                              <p:par>
                                <p:cTn id="5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760"/>
                            </p:stCondLst>
                            <p:childTnLst>
                              <p:par>
                                <p:cTn id="5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4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428760" y="1428840"/>
            <a:ext cx="7929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1868 году Иоганн Фридрих Мишер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фессор Эрвин Чаргаффв 1950 году определил……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 1953 году физик  Ф. Крик и генетик Дж.Уотсон расшифровали……………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"/>
          <p:cNvSpPr/>
          <p:nvPr/>
        </p:nvSpPr>
        <p:spPr>
          <a:xfrm>
            <a:off x="642960" y="35712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ад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уя материалы тетради закончите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 Молекулы ДНК представляют собой материальную основу наследственности, так как в них закодирована информация о структуре молеку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полисахаридов   б – белков   в – липидов   г – аминокисл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В состав нуклеиновых кислот НЕ вх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азотистые основания   б – остатки пентоз    в – остатки фосфорной кислоты    г – аминокисл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 Связь, возникающая между азотистыми основаниями двух комплементарных цепей ДНК,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ионная   б – пептидная   в – водородная   г – сложноэфи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 Комплементарными основаниями НЕ является 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тимин - аденин        б – цитозин - гуанин           в – цитозин - аденин                            г – урацил - адени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 В одном из генов ДНК 100 нуклеотидов с тимином, что составляет 10% от общего количества. Сколько нуклеотидов с гуанин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200     б – 400     в – 1000     г – 18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Молекулы РНК, в отличие от ДНК, содержат азотистое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урацил     б – аденин     в – гуанин     г – цитоз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NTN027"/>
          <p:cNvPicPr/>
          <p:nvPr/>
        </p:nvPicPr>
        <p:blipFill>
          <a:blip r:embed="rId1"/>
          <a:stretch/>
        </p:blipFill>
        <p:spPr>
          <a:xfrm>
            <a:off x="46836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1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1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1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1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0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 Благодаря репликации 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формируется приспособленность организма к среде об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– у особей вида возникают мод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появляются новые комбинации ге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– наследственная информация в полном объеме передается от материнской   клетки к дочерним во время мит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 Молекулы и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служат матрицей для синтеза т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 – служат матрицей для синтеза б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доставляют аминокислоты к рибос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– хранят наследственную информацию кле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 Кодовому триплету ААТ в молекуле ДНК соответствует триплет в молекуле   и-Р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УУА      б – ТТА      в – ГГЦ      г – Ц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  Белок состоит из 50 аминокислотных звеньев. Число нуклеотидов в гене, в котором зашифрована первичная структура этого белка, ра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50       б – 100       в – 150       г – 25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ANTN027"/>
          <p:cNvPicPr/>
          <p:nvPr/>
        </p:nvPicPr>
        <p:blipFill>
          <a:blip r:embed="rId1"/>
          <a:stretch/>
        </p:blipFill>
        <p:spPr>
          <a:xfrm>
            <a:off x="46836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9" dur="500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Итоговое тест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 В рибосоме при биосинтезе белка располагаются два триплета и-РНК, к   которым в соответствии с принципом комплементарности присоединяются антикод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т-РНК      б – р-РНК      в – ДНК      г – бе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.  Какая последовательность правильно отражает путь реализации генетической информац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ген – ДНК – признак – белок          б) признак – белок – и-РНК – ген – ДН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и-РНК – ген – белок – признак        г) ген – и-РНК – белок – призн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3.  Собственные ДНК и РНК в эукариотической клетке содерж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рибосомы      б – лизосомы      в – вакуоли      г – митохонд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.  В состав хромосом вх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РНК и липиды      б – белки и ДНК     в – АТФ и т-РНК     г – АТФ и глю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.  Ученые, которые предположили и доказали, что молекула ДНК – двойная спираль,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– И. Ф. Мишер и О. Эвери        б – М. Ниренберг и Дж. Матт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– Дж. Д. Уотсон и Ф. Крик          г – Р. Франклин и М. Уилкин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ANTN027"/>
          <p:cNvPicPr/>
          <p:nvPr/>
        </p:nvPicPr>
        <p:blipFill>
          <a:blip r:embed="rId1"/>
          <a:stretch/>
        </p:blipFill>
        <p:spPr>
          <a:xfrm>
            <a:off x="324000" y="0"/>
            <a:ext cx="15112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5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1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10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10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7" dur="10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10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10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23946"/>
                </a:solidFill>
                <a:latin typeface="Arial"/>
              </a:rPr>
              <a:t>Проверь себя – правильные от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7280" y="1125360"/>
            <a:ext cx="1944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92800" y="1341360"/>
            <a:ext cx="28512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j0299125"/>
          <p:cNvPicPr/>
          <p:nvPr/>
        </p:nvPicPr>
        <p:blipFill>
          <a:blip r:embed="rId1"/>
          <a:stretch/>
        </p:blipFill>
        <p:spPr>
          <a:xfrm>
            <a:off x="468360" y="1557360"/>
            <a:ext cx="2755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4000"/>
                            </p:stCondLst>
                            <p:childTnLst>
                              <p:par>
                                <p:cTn id="7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0"/>
                            </p:stCondLst>
                            <p:childTnLst>
                              <p:par>
                                <p:cTn id="7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000"/>
                            </p:stCondLst>
                            <p:childTnLst>
                              <p:par>
                                <p:cTn id="7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9000"/>
                            </p:stCondLst>
                            <p:childTnLst>
                              <p:par>
                                <p:cTn id="7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ОТСОН Джеймс Дью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1928 - н.в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мериканский биофизик, биохимик, молекулярный биолог, предложил гипотезу о том, что ДНК имеет форму двойной спирали, выяснил молекулярную структуру нуклеиновых кислот и принцип передачи наследственной информации. Лауреат Нобелевской премии 1962 года по физиологии и медицине (вместе с Фрэнсис Харри Комптоном Крик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1814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788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Стр.106-112,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овторить стр. 85-1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Подготовиться к контрольной работе «Химический состав клет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К Френсис Харри Комптон (1916 - н.в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глийский физик, биофизик, специалист в области молекулярной биологии, выяснил молекулярную структуру нуклеиновых кислот; открыв основные типы РНК, предложил теорию передачи генетического кода и показал, как происходит копирование молекул ДНК при делении клеток. Ученый является членом Лондонского королевского общества (1959), в 1962 году стал лауреатом Нобелевской премии по физиологии и медицине (вместе с Джеймсом Дьюи Уотсоном и Морисом Уилкинс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384120" y="1628640"/>
            <a:ext cx="42498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Химическое строение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2920" y="856800"/>
            <a:ext cx="8786880" cy="38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Нуклеиновые кислоты являются   </a:t>
            </a:r>
            <a:r>
              <a:rPr b="0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биополимерами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, мономеры которых – нуклеоти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Каждый нуклеотид состоит из 3-х ча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азотистого основа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297b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7b52"/>
                </a:solidFill>
                <a:latin typeface="Arial"/>
              </a:rPr>
              <a:t>пентозы – моносахарид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61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9200"/>
                </a:solidFill>
                <a:latin typeface="Arial"/>
              </a:rPr>
              <a:t>остатка фосфорной кислот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Рисунок66"/>
          <p:cNvPicPr/>
          <p:nvPr/>
        </p:nvPicPr>
        <p:blipFill>
          <a:blip r:embed="rId1"/>
          <a:stretch/>
        </p:blipFill>
        <p:spPr>
          <a:xfrm>
            <a:off x="2643120" y="4929120"/>
            <a:ext cx="412128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Organization Chart 2"/>
          <p:cNvGrpSpPr/>
          <p:nvPr/>
        </p:nvGrpSpPr>
        <p:grpSpPr>
          <a:xfrm>
            <a:off x="1307520" y="1615320"/>
            <a:ext cx="6366960" cy="4600800"/>
            <a:chOff x="1307520" y="1615320"/>
            <a:chExt cx="6366960" cy="4600800"/>
          </a:xfrm>
        </p:grpSpPr>
        <p:cxnSp>
          <p:nvCxnSpPr>
            <p:cNvPr id="57" name="_s1028"/>
            <p:cNvCxnSpPr>
              <a:stCxn id="58" idx="0"/>
              <a:endCxn id="59" idx="3"/>
            </p:cNvCxnSpPr>
            <p:nvPr/>
          </p:nvCxnSpPr>
          <p:spPr>
            <a:xfrm flipV="1">
              <a:off x="7071120" y="3052080"/>
              <a:ext cx="124920" cy="272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0" name="_s1029"/>
            <p:cNvCxnSpPr>
              <a:stCxn id="61" idx="0"/>
              <a:endCxn id="59" idx="2"/>
            </p:cNvCxnSpPr>
            <p:nvPr/>
          </p:nvCxnSpPr>
          <p:spPr>
            <a:xfrm flipV="1">
              <a:off x="7071120" y="3051720"/>
              <a:ext cx="124920" cy="166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2" name="_s1030"/>
            <p:cNvCxnSpPr>
              <a:stCxn id="63" idx="0"/>
              <a:endCxn id="59" idx="1"/>
            </p:cNvCxnSpPr>
            <p:nvPr/>
          </p:nvCxnSpPr>
          <p:spPr>
            <a:xfrm flipV="1">
              <a:off x="7071120" y="3051720"/>
              <a:ext cx="124920" cy="60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" name="_s1031"/>
            <p:cNvCxnSpPr>
              <a:stCxn id="65" idx="0"/>
              <a:endCxn id="66" idx="3"/>
            </p:cNvCxnSpPr>
            <p:nvPr/>
          </p:nvCxnSpPr>
          <p:spPr>
            <a:xfrm rot="10800000">
              <a:off x="1788120" y="3051720"/>
              <a:ext cx="122400" cy="272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_s1032"/>
            <p:cNvCxnSpPr>
              <a:stCxn id="68" idx="0"/>
              <a:endCxn id="66" idx="2"/>
            </p:cNvCxnSpPr>
            <p:nvPr/>
          </p:nvCxnSpPr>
          <p:spPr>
            <a:xfrm rot="10800000">
              <a:off x="1788120" y="3051720"/>
              <a:ext cx="122400" cy="166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_s1033"/>
            <p:cNvCxnSpPr>
              <a:stCxn id="70" idx="0"/>
              <a:endCxn id="66" idx="1"/>
            </p:cNvCxnSpPr>
            <p:nvPr/>
          </p:nvCxnSpPr>
          <p:spPr>
            <a:xfrm rot="10800000">
              <a:off x="1788120" y="3051720"/>
              <a:ext cx="122400" cy="6094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1" name="_s1034"/>
            <p:cNvCxnSpPr>
              <a:stCxn id="59" idx="0"/>
              <a:endCxn id="72" idx="1"/>
            </p:cNvCxnSpPr>
            <p:nvPr/>
          </p:nvCxnSpPr>
          <p:spPr>
            <a:xfrm flipV="1" rot="16200000">
              <a:off x="5760720" y="995400"/>
              <a:ext cx="166320" cy="2703960"/>
            </a:xfrm>
            <a:prstGeom prst="bentConnector3">
              <a:avLst>
                <a:gd name="adj1" fmla="val 4989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3" name="_s1035"/>
            <p:cNvCxnSpPr>
              <a:stCxn id="66" idx="0"/>
              <a:endCxn id="72" idx="0"/>
            </p:cNvCxnSpPr>
            <p:nvPr/>
          </p:nvCxnSpPr>
          <p:spPr>
            <a:xfrm flipH="1" flipV="1" rot="5400000">
              <a:off x="3057120" y="995400"/>
              <a:ext cx="166320" cy="2703960"/>
            </a:xfrm>
            <a:prstGeom prst="bentConnector3">
              <a:avLst>
                <a:gd name="adj1" fmla="val 4989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2" name="_s1036"/>
            <p:cNvSpPr/>
            <p:nvPr/>
          </p:nvSpPr>
          <p:spPr>
            <a:xfrm>
              <a:off x="1985400" y="1615320"/>
              <a:ext cx="5011560" cy="649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cc99"/>
                </a:gs>
                <a:gs pos="50000">
                  <a:srgbClr val="ffffff"/>
                </a:gs>
                <a:gs pos="100000">
                  <a:srgbClr val="ffcc99"/>
                </a:gs>
              </a:gsLst>
              <a:lin ang="5400000"/>
            </a:grad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800000"/>
                  </a:solidFill>
                  <a:latin typeface="Arial"/>
                </a:rPr>
                <a:t>Нуклеиновые кислот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37"/>
            <p:cNvSpPr/>
            <p:nvPr/>
          </p:nvSpPr>
          <p:spPr>
            <a:xfrm>
              <a:off x="1307520" y="2430720"/>
              <a:ext cx="960120" cy="62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5c5a"/>
                </a:gs>
                <a:gs pos="50000">
                  <a:srgbClr val="ffffff"/>
                </a:gs>
                <a:gs pos="100000">
                  <a:srgbClr val="005c5a"/>
                </a:gs>
              </a:gsLst>
              <a:lin ang="8100000"/>
            </a:gradFill>
            <a:ln w="3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5c5a"/>
                  </a:solidFill>
                  <a:latin typeface="Arial"/>
                </a:rPr>
                <a:t>ДНК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8"/>
            <p:cNvSpPr/>
            <p:nvPr/>
          </p:nvSpPr>
          <p:spPr>
            <a:xfrm>
              <a:off x="6714360" y="2430720"/>
              <a:ext cx="960120" cy="621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333399"/>
                  </a:solidFill>
                  <a:latin typeface="Arial"/>
                </a:rPr>
                <a:t>РНК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9"/>
            <p:cNvSpPr/>
            <p:nvPr/>
          </p:nvSpPr>
          <p:spPr>
            <a:xfrm>
              <a:off x="1911240" y="321840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Ядерная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 хромосома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40"/>
            <p:cNvSpPr/>
            <p:nvPr/>
          </p:nvSpPr>
          <p:spPr>
            <a:xfrm>
              <a:off x="1911240" y="427320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009999"/>
                  </a:solidFill>
                  <a:uFillTx/>
                  <a:latin typeface="Arial"/>
                  <a:hlinkClick r:id="rId1" action="ppaction://hlinksldjump"/>
                </a:rPr>
                <a:t>кольцевая ДН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митохондр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41"/>
            <p:cNvSpPr/>
            <p:nvPr/>
          </p:nvSpPr>
          <p:spPr>
            <a:xfrm>
              <a:off x="1911240" y="5328360"/>
              <a:ext cx="245628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8100000"/>
            </a:gradFill>
            <a:ln w="32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кольцевая ДН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6666"/>
                  </a:solidFill>
                  <a:latin typeface="Arial"/>
                </a:rPr>
                <a:t>хлоропласто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2"/>
            <p:cNvSpPr/>
            <p:nvPr/>
          </p:nvSpPr>
          <p:spPr>
            <a:xfrm>
              <a:off x="4614840" y="321840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2" action="ppaction://hlinksldjump"/>
                </a:rPr>
                <a:t>информацион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и-РНК</a:t>
              </a:r>
              <a:r>
                <a:rPr b="0" lang="ru-RU" sz="21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– 0,5-1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43"/>
            <p:cNvSpPr/>
            <p:nvPr/>
          </p:nvSpPr>
          <p:spPr>
            <a:xfrm>
              <a:off x="4614840" y="427320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3" action="ppaction://hlinksldjump"/>
                </a:rPr>
                <a:t>транспорт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т-РНК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– 9-10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44"/>
            <p:cNvSpPr/>
            <p:nvPr/>
          </p:nvSpPr>
          <p:spPr>
            <a:xfrm>
              <a:off x="4614840" y="5328360"/>
              <a:ext cx="2456640" cy="8877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3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7360" rIns="2736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 u="sng">
                  <a:solidFill>
                    <a:srgbClr val="009999"/>
                  </a:solidFill>
                  <a:uFillTx/>
                  <a:latin typeface="Arial"/>
                  <a:hlinkClick r:id="rId4" action="ppaction://hlinksldjump"/>
                </a:rPr>
                <a:t>рибосомальна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ru-RU" sz="2100" spc="-1" strike="noStrike">
                  <a:solidFill>
                    <a:srgbClr val="333399"/>
                  </a:solidFill>
                  <a:latin typeface="Arial"/>
                </a:rPr>
                <a:t>р-РНК</a:t>
              </a:r>
              <a:r>
                <a:rPr b="0" lang="ru-RU" sz="2100" spc="-1" strike="noStrike">
                  <a:solidFill>
                    <a:srgbClr val="333399"/>
                  </a:solidFill>
                  <a:latin typeface="Arial"/>
                </a:rPr>
                <a:t> – </a:t>
              </a: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90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80"/>
                </a:solidFill>
                <a:latin typeface="Arial"/>
              </a:rPr>
              <a:t>Виды нуклеиновых кисло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3640" y="-100080"/>
            <a:ext cx="843588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-1440" y="907920"/>
          <a:ext cx="9145440" cy="4724640"/>
        </p:xfrm>
        <a:graphic>
          <a:graphicData uri="http://schemas.openxmlformats.org/drawingml/2006/table">
            <a:tbl>
              <a:tblPr/>
              <a:tblGrid>
                <a:gridCol w="3058920"/>
                <a:gridCol w="2808360"/>
                <a:gridCol w="3278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Призна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Д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Н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СХОД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lvl="4" marL="722160">
                        <a:lnSpc>
                          <a:spcPct val="100000"/>
                        </a:lnSpc>
                        <a:tabLst>
                          <a:tab algn="l" pos="0"/>
                          <a:tab algn="l" pos="46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РАЗЛИЧИЯ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 Сах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Азотистые осн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Местонахожд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клетк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Биологические функц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Первичная структура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Нуклеотид"/>
          <p:cNvPicPr/>
          <p:nvPr/>
        </p:nvPicPr>
        <p:blipFill>
          <a:blip r:embed="rId1"/>
          <a:stretch/>
        </p:blipFill>
        <p:spPr>
          <a:xfrm>
            <a:off x="1332000" y="765000"/>
            <a:ext cx="4429080" cy="2840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08720" y="907560"/>
            <a:ext cx="345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клеотиды связываются между собой в полинуклеотидную цеп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ложноэфирными связя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через 3-й углеродный атом одной молекулы пентозы, кислотный остаток фосфорной кислоты и  5-й углеродный атом другой молекулы пентозы. Остатки азотистых оснований направлены в одну сторону (внутрь молекулы ДН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соединения нуклеотидов в полимерную цепь и является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ервичной структуро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уклеиновых кис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Фрагмент ДНК"/>
          <p:cNvPicPr/>
          <p:nvPr/>
        </p:nvPicPr>
        <p:blipFill>
          <a:blip r:embed="rId2"/>
          <a:stretch/>
        </p:blipFill>
        <p:spPr>
          <a:xfrm>
            <a:off x="250920" y="3213000"/>
            <a:ext cx="4321080" cy="34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788f"/>
                </a:solidFill>
                <a:latin typeface="Arial"/>
              </a:rPr>
              <a:t>Вторичная структура нуклеиновых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Спираль ДН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16000" y="765000"/>
            <a:ext cx="6624720" cy="3686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4508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а ДНК – спиральная, состоит из двух полинуклеотидных цепей, закрученных вокруг общей оси – </a:t>
            </a:r>
            <a:r>
              <a:rPr b="1" lang="ru-RU" sz="2000" spc="-1" strike="noStrike">
                <a:solidFill>
                  <a:srgbClr val="5400a8"/>
                </a:solidFill>
                <a:latin typeface="Arial"/>
              </a:rPr>
              <a:t>вторичная структу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Пары оснований располагаются строго перпендикулярно оси двойной спирали, подобно перекладинам в перевитой веревочной лестнице. Эти пары имеют почти точно одинаковые размеры, поэтому в структуру двойной спирали «вписываются» любые последовательности пар оснований. Данное строение и отражае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одель Уотсона-Крик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10:36Z</dcterms:created>
  <dc:creator>1</dc:creator>
  <dc:description/>
  <dc:language>en-US</dc:language>
  <cp:lastModifiedBy>SPARTACUS</cp:lastModifiedBy>
  <dcterms:modified xsi:type="dcterms:W3CDTF">2014-11-20T15:31:07Z</dcterms:modified>
  <cp:revision>16</cp:revision>
  <dc:subject/>
  <dc:title>Изучение нуклеиновых кислот  в школьном курсе  биологии и химии</dc:title>
</cp:coreProperties>
</file>